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627"/>
        <c:axId val="21763146"/>
      </c:barChart>
      <c:catAx>
        <c:axId val="248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63146"/>
        <c:crosses val="autoZero"/>
        <c:auto val="1"/>
        <c:lblAlgn val="ctr"/>
        <c:lblOffset val="100"/>
        <c:noMultiLvlLbl val="0"/>
      </c:catAx>
      <c:valAx>
        <c:axId val="21763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A51-D848-44F2-9C22-87D57CF6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B32-7E20-4475-88CE-A54D60D2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302-711E-44C7-9674-56717F36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814-6E4B-4E42-93E6-9544B874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96E-CBBB-459E-B9B2-ED8F27EF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662-9193-4091-9883-D5C918EA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1EC-F4B6-4E15-B9A4-5427082E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1F3-DB34-4E76-9E91-ABAAA8B7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70B-31EF-4860-8E1E-43DD184F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FFF-8AD6-4A2F-9344-FAAE56E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D74-294A-4D1F-9E02-2BD32812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16B-72B5-4CA8-B61D-A6982ED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F952E-F670-4A33-9F05-5B5CA2245A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