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36383"/>
        <c:axId val="60499061"/>
      </c:barChart>
      <c:catAx>
        <c:axId val="25436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99061"/>
        <c:crosses val="autoZero"/>
        <c:auto val="1"/>
        <c:lblAlgn val="ctr"/>
        <c:lblOffset val="100"/>
        <c:noMultiLvlLbl val="0"/>
      </c:catAx>
      <c:valAx>
        <c:axId val="60499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36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379-64AD-4065-A128-DF0E13B3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13D-7290-4CCB-B2C3-AD110A82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3B7-2F09-45D6-AEC7-B7BA435B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1C3-BF83-4B21-8375-2D7F88C1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254-6B70-42DC-9CA4-118A4B7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BAA-BB1B-4EE2-94BF-4B1DC0A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E91-0D8E-4488-8E20-70109DC4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E69-0F9D-4C58-8D3E-C0C18EF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38F-D3FA-4115-BCC5-80F008C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C1F-67D0-4F96-BA3F-F67FCFB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60-D6F8-4951-AD4D-7D5CB20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923-D685-4B8B-92D6-2B9647F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75E12-6EB0-44EA-A74E-00C8515572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