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58290"/>
        <c:axId val="99744062"/>
      </c:barChart>
      <c:catAx>
        <c:axId val="938582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44062"/>
        <c:crosses val="autoZero"/>
        <c:auto val="1"/>
        <c:lblAlgn val="ctr"/>
        <c:lblOffset val="100"/>
        <c:noMultiLvlLbl val="0"/>
      </c:catAx>
      <c:valAx>
        <c:axId val="997440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582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1E2-320E-4C57-9E07-CBE7BCA4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34B9-572D-4C5C-8B6F-711400E4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1468-6F0A-42F6-875C-7DBC058C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F38-D5B4-44FB-8239-3206CE31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8E7-D602-421D-988C-F6B2AE34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669-0569-4CC7-A015-020BD595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279-FBE9-42D4-AEAD-A84FDBDF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AD2-D985-4433-8039-1116876F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701F-2A75-4FD6-B97E-C0333A42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322-3166-4BCB-85AD-74C6EA86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5DC-9FB4-4B14-B4E3-0C67799D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C708-19A8-407A-AABB-E4AC2EB5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975E4-56D4-4EC9-99FE-BA73E51C8B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