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739736"/>
        <c:axId val="44361883"/>
      </c:barChart>
      <c:catAx>
        <c:axId val="127397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61883"/>
        <c:crosses val="autoZero"/>
        <c:auto val="1"/>
        <c:lblAlgn val="ctr"/>
        <c:lblOffset val="100"/>
        <c:noMultiLvlLbl val="0"/>
      </c:catAx>
      <c:valAx>
        <c:axId val="443618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397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E293-E111-4D02-B885-6CC63ECB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453C-244F-4CC2-9C75-EA680BC3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787B-46F1-4699-BBED-8F0F7C96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9BF6-C5D7-42E8-AD41-4F40EC30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1696-EAE2-4D9D-981E-9A37344B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2643-A2DE-4693-8E60-4C1089A0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BCF8-4125-4E99-B2BC-B98EF008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797A-704D-474C-842C-1C767CAC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9352-F0D3-482F-9682-4B51C6C1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4816-6F6B-47D8-97EF-E069D600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C33A-39E5-42F2-8E45-C91E98FE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E630-DA42-4BF2-B62B-5AED2296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A8443-9BD7-4F1B-A548-95370E6D91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