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07144"/>
        <c:axId val="57403505"/>
      </c:barChart>
      <c:catAx>
        <c:axId val="25307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03505"/>
        <c:crosses val="autoZero"/>
        <c:auto val="1"/>
        <c:lblAlgn val="ctr"/>
        <c:lblOffset val="100"/>
        <c:noMultiLvlLbl val="0"/>
      </c:catAx>
      <c:valAx>
        <c:axId val="57403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07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E96-A041-47FB-8BCF-C423B7E0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231-1C5A-4D35-BDA9-0431BDD0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13D-A9D6-46BF-984B-FF0F9C9D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590-6CD7-43A8-8519-8A06031A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B2C-AA32-4090-A326-30B61CB7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EFB-0105-4D09-AD6C-909633B3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2E7-D306-479F-90B1-0B6A74A2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5FB-9DEF-4235-8506-5CAD991E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0D7-E1D5-413F-A67E-CE68F0C7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EDC-6B54-4B0A-9BCD-2AB48D07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6E6-BB04-4B65-BE28-96B77495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E8D-A84B-4B08-8C10-F3465162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59B4F-4148-4D55-8718-D518060C01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