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60093"/>
        <c:axId val="36881398"/>
      </c:barChart>
      <c:catAx>
        <c:axId val="57160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81398"/>
        <c:crosses val="autoZero"/>
        <c:auto val="1"/>
        <c:lblAlgn val="ctr"/>
        <c:lblOffset val="100"/>
        <c:noMultiLvlLbl val="0"/>
      </c:catAx>
      <c:valAx>
        <c:axId val="36881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60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D20-F664-4901-A79F-61C69129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C4B-BB67-4973-8791-2FE66F66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807-CAFD-4701-9159-A67BF183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76F-557B-43E5-99CB-D90BB65F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95A-0561-4054-A2DD-0B907E31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928-D15A-41D1-8AF2-F9878F25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D39-5EB6-4B2C-AA9F-548DE321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FF3-6120-45ED-B965-07121C9A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592-66C2-4BC2-9599-BC4D34FB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7A4-9388-4F80-B225-7CCCDDC3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E0E-E554-4E82-8102-28C00C5D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52A-413C-409A-9E91-2288C3A4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B0590-E539-495A-905B-E8A734F904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