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93657"/>
        <c:axId val="73070288"/>
      </c:barChart>
      <c:catAx>
        <c:axId val="24493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0288"/>
        <c:crosses val="autoZero"/>
        <c:auto val="1"/>
        <c:lblAlgn val="ctr"/>
        <c:lblOffset val="100"/>
        <c:noMultiLvlLbl val="0"/>
      </c:catAx>
      <c:valAx>
        <c:axId val="73070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93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C3B-27F3-4A1C-A302-6C8D6876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E50-8069-4F02-94EF-8E231706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0B2-36B9-4571-8447-6ECB5221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686-834B-4E42-8542-F165FB7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2C1-01EB-4F5F-B5F4-6F9884D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BC9-87D8-4BEF-9B0C-3A357E4A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F81-C30D-41F0-B2A9-233B274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CFD-0517-49F5-BD7E-A1F922B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E6E-9C89-43C7-94DF-119E290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468-9EE2-4FC5-925E-6C39306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365-DDA1-46E5-AC53-E383513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813-6144-4FA5-B4EA-7F61A70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DB1F-9376-4AAD-8904-C76BDE0D3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