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15094"/>
        <c:axId val="58005088"/>
      </c:barChart>
      <c:catAx>
        <c:axId val="73915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005088"/>
        <c:crosses val="autoZero"/>
        <c:auto val="1"/>
        <c:lblAlgn val="ctr"/>
        <c:lblOffset val="100"/>
        <c:noMultiLvlLbl val="0"/>
      </c:catAx>
      <c:valAx>
        <c:axId val="580050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15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4B45-DCDC-42B3-A7DD-1798395A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A701-8DE0-4CDB-828B-DE5485D1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99F-2429-4574-9712-09F7D935D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35A8-5C77-41BF-8EC9-FC7B59131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E535-5DF8-405E-ABB7-280211B4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505-02AD-4D69-82F0-8A36CC3B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DDE9-5C85-4F44-9987-DC6F11BF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589F-5B44-489E-BBEB-90DAF271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4D4C-8411-426E-A5CC-B979C1F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BB0-33EE-4988-AFC2-1319923A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626-D862-424D-A4AB-9471F2B9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D58-ECF1-4B71-99C0-851D2C64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67CA1-8D6B-431C-9457-777588705A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