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43564"/>
        <c:axId val="13354096"/>
      </c:barChart>
      <c:catAx>
        <c:axId val="34443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4096"/>
        <c:crosses val="autoZero"/>
        <c:auto val="1"/>
        <c:lblAlgn val="ctr"/>
        <c:lblOffset val="100"/>
        <c:noMultiLvlLbl val="0"/>
      </c:catAx>
      <c:valAx>
        <c:axId val="13354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3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12A-A59D-4B96-B69F-BE3E1187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C24-C33B-4514-B980-5E45C7CE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57E-E61B-472E-9BDB-E1EFF07F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BF1-817B-433F-9E30-F43DB65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EA1-DB8A-4861-9825-D49D3523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A5F-743C-4CBF-898F-4BFB313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874-7D8C-47E3-AB38-5C1749A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142-CEE9-49ED-B06E-785DA55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B6D-F92D-4A78-BBB3-CBE31D9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38F-8509-45CA-A33C-E96290E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0E3-CEF7-4540-BDEE-CCFC15B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D67-5D70-4CE7-90AE-EC7FB43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4931C-BC0B-4416-A2E0-95082DB9C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