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89436"/>
        <c:axId val="96380841"/>
      </c:barChart>
      <c:catAx>
        <c:axId val="51689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0841"/>
        <c:crosses val="autoZero"/>
        <c:auto val="1"/>
        <c:lblAlgn val="ctr"/>
        <c:lblOffset val="100"/>
        <c:noMultiLvlLbl val="0"/>
      </c:catAx>
      <c:valAx>
        <c:axId val="96380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9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592-72EB-4D1A-BFF9-EB06A738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822-E05A-4F71-897E-A395B62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282-1C32-42C1-9990-FBE82C81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47F-F6B6-4FD1-A33D-081FD887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78-D8C8-4192-83EA-EEA0CB2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5E4-8960-4EBE-A40B-04EFD8D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B38-4EA8-4C9E-9FD6-E363EDD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F82-1DF0-489C-B4ED-43FC9F2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AD2-EC9A-4D63-8A05-9389EC2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C83-EE40-4DDC-A146-3D668A8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8E9-1E45-40BE-A561-A658B5E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541-4E81-453E-BB37-F0EDFC6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7D51B-5CD9-453A-BB7A-289BE9362C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