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21820"/>
        <c:axId val="16046632"/>
      </c:barChart>
      <c:catAx>
        <c:axId val="47421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46632"/>
        <c:crosses val="autoZero"/>
        <c:auto val="1"/>
        <c:lblAlgn val="ctr"/>
        <c:lblOffset val="100"/>
        <c:noMultiLvlLbl val="0"/>
      </c:catAx>
      <c:valAx>
        <c:axId val="16046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21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0AAB-5E97-47CB-9C6D-91C013FB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FD7-7069-4000-8B28-B218ACF6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65B-0974-4560-AA3C-12F782AE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148-E954-48FB-A3CC-AE6FEFC3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271-42B0-4695-A6AD-6F14AF13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D04-7D0A-478F-A82C-3317B0E2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D0F-3B5A-42D0-AECC-444A2156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60C-18FA-4DC3-B710-93B45B97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688-A877-4BAD-97F0-8C9FE5C3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354-A10E-4782-BF2C-CAA68C8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DD0-AFEF-4A84-9227-DA4803C4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5FA-C673-4C50-A3C9-54C4853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9E602-EBA4-45B3-B8BB-974DA584BB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