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62480"/>
        <c:axId val="22539090"/>
      </c:barChart>
      <c:catAx>
        <c:axId val="423624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39090"/>
        <c:crosses val="autoZero"/>
        <c:auto val="1"/>
        <c:lblAlgn val="ctr"/>
        <c:lblOffset val="100"/>
        <c:noMultiLvlLbl val="0"/>
      </c:catAx>
      <c:valAx>
        <c:axId val="225390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624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6520-16AF-4F59-A503-801EE2F3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8FE-D829-487B-B43A-15B9DA7D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8C3A-5792-421B-BAA9-82200D4C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97AC-4DF2-49B5-8AC3-0241E8BF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8D5F-A43A-4D85-8BCC-23EF82D8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F71E-3A0C-4148-AE97-852DDC89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4BB-7DD6-459A-B824-84FD8941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7FE2-B141-41EA-9798-55D0CF15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C8A7-46E6-4169-B3A6-28060B0C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8B91-6116-4BC8-A30A-48DC2B46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811-B498-4FCF-94EA-98AB3128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6AA-C214-43FB-B760-250AC65D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BCE0F-B907-47BB-A558-70E99363A2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