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40002"/>
        <c:axId val="72022730"/>
      </c:barChart>
      <c:catAx>
        <c:axId val="26940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2730"/>
        <c:crosses val="autoZero"/>
        <c:auto val="1"/>
        <c:lblAlgn val="ctr"/>
        <c:lblOffset val="100"/>
        <c:noMultiLvlLbl val="0"/>
      </c:catAx>
      <c:valAx>
        <c:axId val="72022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40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472-3C58-45A2-BC22-331477D5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A78-3472-40B0-8589-3CFCEEC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D37-0967-43A2-BF6A-623CC842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62B-B922-4DAE-9605-7655AC50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8C2-9825-4A48-96F9-39ED87CA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4C0-8F4C-49F8-AA1F-5B1601ED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20D-2BF9-4C52-9EA8-9CE10C9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9BE-9EEA-4242-8EA7-AF1FEFF5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C43-D0A4-4E4B-ADD7-9D859F3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89B-A7C5-458E-BB3F-96AB69D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3EB-9C3C-469A-B890-1F90F66E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896-47D8-4FCC-97B7-A09B032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7D6C-171D-4010-982D-90D6218F9B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