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474924"/>
        <c:axId val="22944744"/>
      </c:barChart>
      <c:catAx>
        <c:axId val="454749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944744"/>
        <c:crosses val="autoZero"/>
        <c:auto val="1"/>
        <c:lblAlgn val="ctr"/>
        <c:lblOffset val="100"/>
        <c:noMultiLvlLbl val="0"/>
      </c:catAx>
      <c:valAx>
        <c:axId val="229447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4749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C0BF-0A55-4F0D-80BE-C34B96E21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F220-5CFC-4E9C-9CE0-806896FB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FC4D-8EF3-4DEA-A79E-80E27A4C9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9688-2C06-4E0E-9DCE-18DE4CA4C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4E44-3E9F-4029-B580-10B40589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68FF-5A56-4C78-B0FE-B4EC68CE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BE05-F568-418F-A4A1-F5490223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DA69-AC3E-4D73-88C7-14E4A020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4216-73CF-4226-A9AE-CDF99E23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96A2-CB1D-4610-8920-D9A25FA3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91C9-A921-48BA-9C53-F890EFC2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4D3A-575D-4902-902D-03B8DBB0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D53AF0-636F-402E-8E1A-E9B2672CA3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