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572681"/>
        <c:axId val="74228902"/>
      </c:barChart>
      <c:catAx>
        <c:axId val="605726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28902"/>
        <c:crosses val="autoZero"/>
        <c:auto val="1"/>
        <c:lblAlgn val="ctr"/>
        <c:lblOffset val="100"/>
        <c:noMultiLvlLbl val="0"/>
      </c:catAx>
      <c:valAx>
        <c:axId val="742289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726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4281-1B08-441A-8424-CD0C86A05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8527-6AB6-4E41-9870-9768744E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9556-62B9-4A05-93FA-9858949D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6966-ED6B-4538-B9AD-44CD419F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3811-D6A7-488A-A3A3-9D607599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5DEB-6AA8-478D-8183-08522BD0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DB6E-6EBC-408C-94A0-4D7E7DFD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83DA-ED90-4E34-A707-8EE92F1A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8157-F3E6-438A-B6EB-F335173F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F240-593D-48CB-BF45-58551841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5A64-EC35-4A70-BADE-67D54393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AC2A-F4CF-43A7-B224-62CB4B8E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EAEE2-8A07-4C0B-A74E-E509BEC4F0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