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62926"/>
        <c:axId val="16974890"/>
      </c:barChart>
      <c:catAx>
        <c:axId val="93962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4890"/>
        <c:crosses val="autoZero"/>
        <c:auto val="1"/>
        <c:lblAlgn val="ctr"/>
        <c:lblOffset val="100"/>
        <c:noMultiLvlLbl val="0"/>
      </c:catAx>
      <c:valAx>
        <c:axId val="16974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62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987-B6D4-4890-B05F-130270C6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DEF-7FD3-4053-B62B-73D12C02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F4C-D441-4C7D-9053-B55FDC47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094-C47E-48B8-B29C-45BC847E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888-C144-4B63-B35F-CF25CF31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CB3-69DE-4DD6-AFC4-2E8A6307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607-67BA-4E21-B8DC-D373BB5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32A-F8D4-4489-B81A-70E82A1C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1A5-BE2E-402E-A4B3-D0140362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5A2-0499-4648-AE61-711B8D1C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0DE-6E7C-4B07-8573-FEF2AF55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508-603D-44F4-A40D-8291043E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85A05-3936-4DBC-8446-40CC9C56B7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