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18321"/>
        <c:axId val="43737082"/>
      </c:barChart>
      <c:catAx>
        <c:axId val="12818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37082"/>
        <c:crosses val="autoZero"/>
        <c:auto val="1"/>
        <c:lblAlgn val="ctr"/>
        <c:lblOffset val="100"/>
        <c:noMultiLvlLbl val="0"/>
      </c:catAx>
      <c:valAx>
        <c:axId val="43737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18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969-19B5-4960-A993-11AB25DB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A83-4AAD-42EA-B6E1-9FF28CBB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E24-4581-4130-8985-1F116359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684-D101-4848-B69F-41881A54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A9A-5035-4EF3-B5F3-7CF729EA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97B-B11A-4D4E-9BC2-269FD7A3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9E8-FCDA-4D95-840C-044782A4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40B-92CB-4CAD-A349-1A1562A6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0AB-14CA-4D23-864D-681348B4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65C-5C6C-42CB-B13F-7D253DB1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C1D-D9A3-4CBA-9F76-C0DF4EE9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5C40-62A6-430F-80C8-216E3F0B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C68FA-C4DB-4C2E-937B-2810FF7056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