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62235"/>
        <c:axId val="99429030"/>
      </c:barChart>
      <c:catAx>
        <c:axId val="285622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29030"/>
        <c:crosses val="autoZero"/>
        <c:auto val="1"/>
        <c:lblAlgn val="ctr"/>
        <c:lblOffset val="100"/>
        <c:noMultiLvlLbl val="0"/>
      </c:catAx>
      <c:valAx>
        <c:axId val="994290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622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6FA3-6A08-4977-8452-13C22EBA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C15A-5BCC-484C-8233-01535E6A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1A27-5FE4-4D6D-8307-31D370D2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8358-C27D-4261-989E-60F04994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874C-E633-4206-9479-9056F704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68F8-1A11-44CE-B581-270E799D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B393-1738-409A-A8D2-E3EF60BC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A37-A954-48C7-BF15-CB670A3F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7E1-1100-41F8-AC05-13FF44B5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DAAC-6677-484A-A1FA-C8D6D9E2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882C-1F0E-44FB-8E4B-CA7C88F6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184-FA82-406A-AF9F-814FB7EA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23B29-91E7-4F1D-A9DC-306A6505B0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