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52726"/>
        <c:axId val="95150215"/>
      </c:barChart>
      <c:catAx>
        <c:axId val="64252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50215"/>
        <c:crosses val="autoZero"/>
        <c:auto val="1"/>
        <c:lblAlgn val="ctr"/>
        <c:lblOffset val="100"/>
        <c:noMultiLvlLbl val="0"/>
      </c:catAx>
      <c:valAx>
        <c:axId val="95150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52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0A6-B713-4C87-9C51-79705B47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6EE-D03C-4956-8910-DC63A400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2E3-F5A0-45C0-B111-5ED6A06A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AC8-D010-4EC1-94B6-C6B2E6C9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ACDE-8E2F-4703-8B7C-F1018D93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470-1A05-448F-9338-8AAF9AF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A05-72F0-4001-A584-9C266615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05C-188A-4EE8-9E12-4F721438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F27-3BE3-4886-87B2-11ADAF99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F29-129D-4E78-B99F-D112C81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33C-20BB-4DC1-BF55-9FE0EE0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138-B6AF-423F-A27E-55872D3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C5A9B-14AB-4BB6-93B8-B8A6F001B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