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194269"/>
        <c:axId val="56183715"/>
      </c:barChart>
      <c:catAx>
        <c:axId val="981942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183715"/>
        <c:crosses val="autoZero"/>
        <c:auto val="1"/>
        <c:lblAlgn val="ctr"/>
        <c:lblOffset val="100"/>
        <c:noMultiLvlLbl val="0"/>
      </c:catAx>
      <c:valAx>
        <c:axId val="561837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942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5B98-CBC4-4688-8B2A-EEF2B7115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977E-2DE8-4FFA-970A-7AC738BF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4860-21F9-4A42-9230-DFFA6526F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919E-7CCC-4E04-875B-2B838F5EA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0388-6880-4663-A276-7F9212E8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A1AE-F015-4D5D-8AB6-3ED56E9C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018A-86CC-493F-802D-E850AFCB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2CC9-A09B-48F1-BFF6-858B1028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9A58-6304-4C1C-8667-58F3E62F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8995-5318-4E56-8275-7CBB41F0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5663-8C3E-4188-959D-F078803C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D296-E59C-4B71-AAC6-25F6221B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D9348-9C66-453A-9EE9-489961ADCF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