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35650"/>
        <c:axId val="74529503"/>
      </c:barChart>
      <c:catAx>
        <c:axId val="58435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29503"/>
        <c:crosses val="autoZero"/>
        <c:auto val="1"/>
        <c:lblAlgn val="ctr"/>
        <c:lblOffset val="100"/>
        <c:noMultiLvlLbl val="0"/>
      </c:catAx>
      <c:valAx>
        <c:axId val="74529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35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F69-0A61-4382-AE07-AD86F2AC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87D-8B1B-4A31-A659-F70072C2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5B9-5B8E-4C20-8BCA-9669A247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CE4-8DE7-4336-A6B3-81E8DB93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42F-8B47-4132-8805-B3346A48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52B-E77E-493E-A623-C90A627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98C-4D76-43A3-A0C0-3CAA6D99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D81-DC36-425D-86AE-1B3A0D58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8E1-7A82-43B9-9114-29C25B02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9D3-788F-4337-BBA4-CA5A204C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BCB-96DF-45D6-812C-8F31A138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ED8-BBEB-4BDD-83F5-F07AF7A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DD850-097A-4138-97DE-3CA5F55A67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