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7695"/>
        <c:axId val="51487408"/>
      </c:barChart>
      <c:catAx>
        <c:axId val="37167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87408"/>
        <c:crosses val="autoZero"/>
        <c:auto val="1"/>
        <c:lblAlgn val="ctr"/>
        <c:lblOffset val="100"/>
        <c:noMultiLvlLbl val="0"/>
      </c:catAx>
      <c:valAx>
        <c:axId val="51487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7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89-FEBF-4DD7-86A2-E95469FD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F37-BCA8-45EE-97A9-5E5B579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FD6-19FD-4308-8692-D721FF48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0DB-E298-4FF2-8631-7B97B578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B51-BCBF-4E4F-9283-F7C76AA4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167-2203-4186-86B2-9AE3369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D94-24B0-490F-AE62-79C6C038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C5B-5685-4B3F-B99D-22AA58AC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699-57DF-4E4F-ACB0-885576C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1D3-6DA4-4C6B-B586-B67ADEC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6DB-124D-4928-B562-16B3ED5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8CE-A9D7-4AFF-BDD9-C22F3CA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11E7D-C184-4432-9FAD-654AD43ECA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