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095144"/>
        <c:axId val="98439962"/>
      </c:barChart>
      <c:catAx>
        <c:axId val="520951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39962"/>
        <c:crosses val="autoZero"/>
        <c:auto val="1"/>
        <c:lblAlgn val="ctr"/>
        <c:lblOffset val="100"/>
        <c:noMultiLvlLbl val="0"/>
      </c:catAx>
      <c:valAx>
        <c:axId val="984399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951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C7E2-A3E5-4352-9069-F78919CA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07C3-A44C-4BA0-B4B1-EAE3811B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2FCD-0C1B-4F24-A96E-39095496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B933-209D-47A8-BB02-055852182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B9F8-CC8B-4410-B178-9E344F6F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C2BF-93BE-4103-87D6-9E5BE6CF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04F5-FC49-41B5-B597-10CE419B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108A-87CB-4DFA-B425-6B74ED7D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4540-B49A-4267-A85E-F330D606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2A14-7EB5-4568-A808-6BC139FB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0177-FF7B-4DB4-A871-B0D3D1D6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8DFB-9015-400E-8D13-EDBEA66C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68B44-8D09-457F-88CE-6AA1AEB6C1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