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36637"/>
        <c:axId val="76643572"/>
      </c:barChart>
      <c:catAx>
        <c:axId val="86936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43572"/>
        <c:crosses val="autoZero"/>
        <c:auto val="1"/>
        <c:lblAlgn val="ctr"/>
        <c:lblOffset val="100"/>
        <c:noMultiLvlLbl val="0"/>
      </c:catAx>
      <c:valAx>
        <c:axId val="76643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36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C2A-4E39-4754-B4BB-6ABDAB9E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FEB-898E-4500-944F-790D5200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D84-5E6B-440F-8635-3D84EAFB3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1391-1C9D-4FE0-8A23-75BDA5E5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8C5B-4002-49E8-9955-7FD29EAD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CB8-CE97-4BC8-B309-13E289B3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659-ED68-4364-AB67-0C3FC8D0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8DB0-B92E-47F2-B835-D79B0642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432-AFD2-43F6-9139-27EB9EB8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E45-51CF-4846-A4FD-85A3C4E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F94-16B7-47B7-8E2E-BFF5BC5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50ED-F4D7-4F1E-88A7-4770FA4F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E7961B-29EF-4B70-AFB9-5E4DC3B37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