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63105"/>
        <c:axId val="72813665"/>
      </c:barChart>
      <c:catAx>
        <c:axId val="706631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13665"/>
        <c:crosses val="autoZero"/>
        <c:auto val="1"/>
        <c:lblAlgn val="ctr"/>
        <c:lblOffset val="100"/>
        <c:noMultiLvlLbl val="0"/>
      </c:catAx>
      <c:valAx>
        <c:axId val="72813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631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DFC0-BBAF-4F8B-A154-C67979A8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388-1B6E-447E-A723-A54A37C5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2B1-6A32-4752-8D5B-C4428623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BB9-F4CD-4F7F-937F-264C1BB2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2914-FE72-4D6B-B121-C8177E59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B2A3-E39C-4132-83C1-F64C1286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E8D0-A618-4152-B883-7099C1BC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D2D-F43A-43E3-8858-0C008219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5C5-5A00-44AA-8F3E-B7BAB3E9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DD6D-E090-415B-AE7A-523384E6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BCD0-2304-4AD4-8AE0-752C670D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42E-06B7-4BBA-B60E-9E5EF42A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8635B-BB3F-433A-AFB9-56BA4CB2E8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