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96262"/>
        <c:axId val="88688496"/>
      </c:barChart>
      <c:catAx>
        <c:axId val="22496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88496"/>
        <c:crosses val="autoZero"/>
        <c:auto val="1"/>
        <c:lblAlgn val="ctr"/>
        <c:lblOffset val="100"/>
        <c:noMultiLvlLbl val="0"/>
      </c:catAx>
      <c:valAx>
        <c:axId val="88688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96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509-DF5B-4EC7-8583-9AA64ED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0EE-DE25-4856-AF45-F0C580D0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8BB-4C2A-4232-849B-64220D26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5B8-A496-4387-AD2C-3092AFDC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8CE-438B-42A1-98C1-0A1E170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CC0-8100-4536-B252-E802646F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3D2-3914-4410-B385-086EC0F4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900-0582-45CF-B0FA-8DCAE17F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B2C-84A9-4EC5-A7EE-BCADE38D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661-4A7D-4A3C-9144-71D6368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BAB-355B-4FA2-9B84-75A606B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7C9-E417-4823-BF89-759C0BB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A8A5F-68AE-45EA-B86F-BF6540D5D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