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31772"/>
        <c:axId val="76574993"/>
      </c:barChart>
      <c:catAx>
        <c:axId val="88131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74993"/>
        <c:crosses val="autoZero"/>
        <c:auto val="1"/>
        <c:lblAlgn val="ctr"/>
        <c:lblOffset val="100"/>
        <c:noMultiLvlLbl val="0"/>
      </c:catAx>
      <c:valAx>
        <c:axId val="76574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31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BF9-6CDF-4159-8E36-8CE30FE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D43-AE44-4547-BD77-654F331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E9F-0C70-4164-B053-ABB953B7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29F-0E33-42BD-AAA5-CEAF0ECA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1FA-5381-44F2-8A88-3BFEC48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98B-3300-4561-ABFA-ABFF1D8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17D-5A77-433E-8EE7-5E487FF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E5A-07B9-4894-8A4A-B89A9A63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EAE-D72D-4FD0-BBA1-492E489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811-FB7E-49F8-85AD-64FDEF5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8BE-4E0A-40BA-A343-FE6542C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122-B792-4294-BA02-79CAFF7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5D34-B23C-43A5-8089-95964641C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