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168937"/>
        <c:axId val="63309772"/>
      </c:barChart>
      <c:catAx>
        <c:axId val="73168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09772"/>
        <c:crosses val="autoZero"/>
        <c:auto val="1"/>
        <c:lblAlgn val="ctr"/>
        <c:lblOffset val="100"/>
        <c:noMultiLvlLbl val="0"/>
      </c:catAx>
      <c:valAx>
        <c:axId val="633097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68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F3FF-5CFF-4721-9366-96A6CB3D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A8E-FEC8-431F-AA85-3ECC4B59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FD0E-5905-4FDE-A517-8792C863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69D-AB61-40D9-980D-CABC88F5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A51-495D-4A0B-8EAC-E4D5A7C0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F29C-3DD2-42D4-BC53-246FE9F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A9B-7240-4D1D-A0A1-8120E614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D37B-807A-4EF6-91B7-20BA8569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09CC-89A4-4B15-BE05-7F01D533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47CE-02C6-4116-BE41-B2117C24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9F86-EDD1-493F-AC00-C2B43BD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200-504C-435F-BC9E-DC92A207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0C95B-F3A8-49E0-8B8D-3005B30CE7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