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45294"/>
        <c:axId val="46723419"/>
      </c:barChart>
      <c:catAx>
        <c:axId val="19445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23419"/>
        <c:crosses val="autoZero"/>
        <c:auto val="1"/>
        <c:lblAlgn val="ctr"/>
        <c:lblOffset val="100"/>
        <c:noMultiLvlLbl val="0"/>
      </c:catAx>
      <c:valAx>
        <c:axId val="46723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45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038-FDE1-4184-8931-045AAA89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00F-1950-4944-BE04-61119605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2E5-1CBF-4C86-BB93-E600F53C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D8F-6044-45D4-B1DD-13524346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506-AE41-4688-ACB9-0BB9A1C7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392-20E0-48C3-9A1E-1E76D4D5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A5C-98EC-4506-B806-83EFD875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733-D76D-4779-89AB-9236A728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17E-3700-4137-8C55-3575C8A2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105-AD38-485A-A4EC-A0B8F629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298-4A13-40DF-9863-8AB501C7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041-0D00-4552-9708-313FD954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B43BB-0D84-4A03-B025-EED05949AC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