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53536"/>
        <c:axId val="11324363"/>
      </c:barChart>
      <c:catAx>
        <c:axId val="95653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24363"/>
        <c:crosses val="autoZero"/>
        <c:auto val="1"/>
        <c:lblAlgn val="ctr"/>
        <c:lblOffset val="100"/>
        <c:noMultiLvlLbl val="0"/>
      </c:catAx>
      <c:valAx>
        <c:axId val="11324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53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91D-7921-444A-B14C-CE612F0F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F9D-BF70-435F-AD56-FC45243B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F0F-02E0-4A83-98B4-41B3D584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7E9-1AAB-48DF-BBE2-C7A5008F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828-83AE-4C9E-8FD3-96AD8A7C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41B-A962-4838-9256-001BFA36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975-1615-49F9-8CC7-1638D061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A59-2FE0-4771-BBF7-6C6D462B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9AFE-9518-4C10-9BD7-C59DA21E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4AF-96EA-493F-B07D-0FA6CFF5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C41-13AE-450B-9851-4DFFACC8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EA6-9011-4626-A1F8-7E8EE40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D703D-6122-413C-B876-EF516735F0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