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985620"/>
        <c:axId val="7718897"/>
      </c:barChart>
      <c:catAx>
        <c:axId val="609856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8897"/>
        <c:crosses val="autoZero"/>
        <c:auto val="1"/>
        <c:lblAlgn val="ctr"/>
        <c:lblOffset val="100"/>
        <c:noMultiLvlLbl val="0"/>
      </c:catAx>
      <c:valAx>
        <c:axId val="77188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856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D94-A51E-4124-813A-DD673A12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EC7-F135-4A0D-BA5A-946C0981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C08-32CE-4923-8AE6-67D34A12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82A0-3555-4506-93DF-5726D4DE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E9FC-C7FE-44FD-BA43-037CCDA2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B30-129F-4773-94FB-39728373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9CB-0846-48B9-89F9-7DDC24CD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4D7-08B7-455D-B060-0EDEDFA5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006-34A1-4453-8BDE-2C6A84AE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962-F9D8-4591-8EB9-2C6FDC40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6AF-A2E6-48A2-BBFA-DAE5737C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E7D-AEEA-476E-8463-0FE57ADD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E3523-05E0-4612-9295-164F10906A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