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0ABD9-E4F0-42BE-A0C0-66CCF9163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E580D-E4D7-4EA0-A1C8-0A82191CC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954AC-AB34-46EA-AB0B-2DDB94C06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5B2B1-1A1C-42F5-BB76-DD72DFC44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660CF7-2FDC-4094-B139-F9095648A5E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FE7AD1-FC00-40BB-8BED-04FFB32FB6A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885EE3-87B8-4A01-87F5-F33B455D857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87F0D8-9FBA-41B2-8932-91808C4F882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E33A87-E7B1-43E7-B77D-5CD818A0E79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554A52-A315-482D-9CAA-6B890777738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A53C64-3453-46C1-A8C3-4203112DFD5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F9328-6A7C-4D61-A717-712225D6F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0C7169-CB16-4C2E-B338-42F028D1D40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F36BA7-B9B0-4E98-9F3F-60F26F16D5D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A429A5-22EF-4993-ACF7-E57D7262319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9BC132-63FC-43CE-B382-1773EB7DE27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3FE9BD-DA9D-4486-AC8E-FA08C80C551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F564A-A29D-44A6-A244-BE6662EDA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F5E7B-5948-479D-B402-831B3091E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C7EFD-8E46-494C-A644-14CD17FE7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50ABD-20B3-4208-832B-88615D18A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0FEE7-DF2B-4278-94DB-1C2636C13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9A028-05AB-418B-BA16-6375E5430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E13CA-A262-45A5-98DC-2DC865462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0492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F8F76-448E-464C-8B1E-C0F94FA27E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8059680" y="76320"/>
            <a:ext cx="998640" cy="129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251460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A70A9-694E-4C6A-82A7-C902E208CA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8145360" y="2209680"/>
            <a:ext cx="998640" cy="12956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tcl.sf.net/" TargetMode="External"/><Relationship Id="rId2" Type="http://schemas.openxmlformats.org/officeDocument/2006/relationships/hyperlink" Target="http://tcl.sf.net/" TargetMode="External"/><Relationship Id="rId3" Type="http://schemas.openxmlformats.org/officeDocument/2006/relationships/hyperlink" Target="http://tcl.sf.net/" TargetMode="External"/><Relationship Id="rId4" Type="http://schemas.openxmlformats.org/officeDocument/2006/relationships/hyperlink" Target="http://tcl.sf.net/" TargetMode="External"/><Relationship Id="rId5" Type="http://schemas.openxmlformats.org/officeDocument/2006/relationships/hyperlink" Target="http://tcl.sf.net/" TargetMode="External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cover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52280" y="6248520"/>
            <a:ext cx="883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he (Active) State of T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med in August 2000 with 14 charter members based on community voting to collectively manage development of the c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Core Team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2133720" y="3032280"/>
          <a:ext cx="5105160" cy="2766960"/>
        </p:xfrm>
        <a:graphic>
          <a:graphicData uri="http://schemas.openxmlformats.org/drawingml/2006/table">
            <a:tbl>
              <a:tblPr/>
              <a:tblGrid>
                <a:gridCol w="2552760"/>
                <a:gridCol w="25524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reas Kupr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arl Lehenbau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k Harris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chael McLenn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. Richard Hip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rey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hn Ousterho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orge Howlet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 Por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im Ing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rent Wel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1" name=""/>
          <p:cNvGraphicFramePr/>
          <p:nvPr/>
        </p:nvGraphicFramePr>
        <p:xfrm>
          <a:off x="3753000" y="5799240"/>
          <a:ext cx="1866600" cy="431640"/>
        </p:xfrm>
        <a:graphic>
          <a:graphicData uri="http://schemas.openxmlformats.org/drawingml/2006/table">
            <a:tbl>
              <a:tblPr/>
              <a:tblGrid>
                <a:gridCol w="18666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Ken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T: TIP Initiativ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IP page for Tcl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Lucida Console"/>
              </a:rPr>
              <a:t>http://www.tcl.tk/cgi-bin/tct/tip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IPs are intended to guide and document development on the c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he focus is on new or changing features, not bu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Voted on by the TCT following community discussion using the TYANNOTT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urrently over 100 TI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Divided into process, informational &amp; project T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T discussion is open on the public mailing list: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CA" sz="2000" spc="-1" strike="noStrike">
                <a:solidFill>
                  <a:srgbClr val="000000"/>
                </a:solidFill>
                <a:latin typeface="Lucida Console"/>
              </a:rPr>
              <a:t>tcl-core@lists.sourceforge.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/Tk Maintainer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l/Tk maintainers are separate from the T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intainers oversee a specific area of the core, as defined in TIP #16 for Tcl and TIP #23 for T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y assist, but are not solely responsible for, fixing  bugs and adding documentation in their a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y are responsible for reviewing code and approving code changes to their a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Open to anyone willing to learn the c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New volunteers always welco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he Maintainers…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cl (TIP #24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k (TIP #30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Other contributors as w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1371600" y="3814920"/>
          <a:ext cx="7315200" cy="1616040"/>
        </p:xfrm>
        <a:graphic>
          <a:graphicData uri="http://schemas.openxmlformats.org/drawingml/2006/table">
            <a:tbl>
              <a:tblPr/>
              <a:tblGrid>
                <a:gridCol w="1716120"/>
                <a:gridCol w="1985760"/>
                <a:gridCol w="1987560"/>
                <a:gridCol w="1625760"/>
              </a:tblGrid>
              <a:tr h="40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len Fli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ter Spju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dd Helf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orge Smi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édéric Bonn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Griff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nce Darle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engye Ma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e Englis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OU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E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9" name=""/>
          <p:cNvGraphicFramePr/>
          <p:nvPr/>
        </p:nvGraphicFramePr>
        <p:xfrm>
          <a:off x="1371600" y="2057400"/>
          <a:ext cx="7315200" cy="1219320"/>
        </p:xfrm>
        <a:graphic>
          <a:graphicData uri="http://schemas.openxmlformats.org/drawingml/2006/table">
            <a:tbl>
              <a:tblPr/>
              <a:tblGrid>
                <a:gridCol w="1716120"/>
                <a:gridCol w="1985760"/>
                <a:gridCol w="1987560"/>
                <a:gridCol w="1625760"/>
              </a:tblGrid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niel Steff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im Ing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Ken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guel Sof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reas Kupr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olf Schroed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nce Darle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 Por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Scriptics/Ajuba…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criptics became Ajuba Solutions in May 2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ew focus as a B2B infrastructure 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terwoven: content management company in need of B2B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juba assimilated on Nov 1,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/Tk moved to SourceForge:</a:t>
            </a:r>
            <a:br>
              <a:rPr sz="2400"/>
            </a:b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1"/>
              </a:rPr>
              <a:t>http://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2"/>
              </a:rPr>
              <a:t>tcl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3"/>
              </a:rPr>
              <a:t>.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4"/>
              </a:rPr>
              <a:t>sf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5"/>
              </a:rPr>
              <a:t>.net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Further open source work not continued at Interwov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Most other projects at Ajuba moved to SourceFor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6705720" y="439560"/>
            <a:ext cx="433440" cy="417600"/>
            <a:chOff x="6705720" y="439560"/>
            <a:chExt cx="433440" cy="417600"/>
          </a:xfrm>
        </p:grpSpPr>
        <p:sp>
          <p:nvSpPr>
            <p:cNvPr id="223" name=""/>
            <p:cNvSpPr/>
            <p:nvPr/>
          </p:nvSpPr>
          <p:spPr>
            <a:xfrm>
              <a:off x="6931080" y="5612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81012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>
              <a:off x="680976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75828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flipH="1">
              <a:off x="675756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757560" y="631080"/>
              <a:ext cx="31212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705720" y="559440"/>
              <a:ext cx="433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/Tk at SourceForg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ourceForge provides a wealth of services for open source pro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Bug and patch data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VS reposito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ile ser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eb p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anaged by TCT and Tcl/Tk maintain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Not the Tcl Developer Xchan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@ ActiveSt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veState established 199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amming for the Peopl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 to be Perl specif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ll known ActivePerl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ed Python and XML/XSLT expertise in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eff Hobbs hired in Feb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reas Kupries follows soon af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knowledgeable Tcl’ers on sta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alth of scripting knowledge at ActiveSt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tiveState and Tcl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eState provides the Tcl community with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rovements to open source Tcl 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st of the Tcl Developer X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ercial support 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http://www.ActiveState.com/Products/Enterprise/TclDirect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essional services for Tcl (TclDire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quality development t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eTc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http://aspn.ActiveState.com/ASPN/Tcl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PN Tcl (TclPro + Komodo ID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http://www.ActiveState.com/Products/ASPN_Tcl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tiveTcl 8.3.4.3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sed on the 8.3.4 Tcl co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nhanced with several popular extens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incr Tcl], TclX, expect, tcllib, Bwidgets, iwidgets, tktable, tkc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 standard batteries-included distribution for Tcl us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de repository (still) in the 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 Developer Xchang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devxchange" descr=""/>
          <p:cNvPicPr/>
          <p:nvPr/>
        </p:nvPicPr>
        <p:blipFill>
          <a:blip r:embed="rId1"/>
          <a:stretch/>
        </p:blipFill>
        <p:spPr>
          <a:xfrm>
            <a:off x="1014480" y="1143000"/>
            <a:ext cx="7115040" cy="5529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(Active) State of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Jeff Hobb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 Cookbook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tclcookbook" descr=""/>
          <p:cNvPicPr/>
          <p:nvPr/>
        </p:nvPicPr>
        <p:blipFill>
          <a:blip r:embed="rId1"/>
          <a:stretch/>
        </p:blipFill>
        <p:spPr>
          <a:xfrm>
            <a:off x="1014480" y="1143000"/>
            <a:ext cx="7115040" cy="5486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PN Tcl: TclPro + Mor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troduced December 200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suscitated TclPro as a commercial quality development environ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bugger: source-level debugger with nice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er: find errors without running ap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apper: create self-contained applications for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: protect your source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5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6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47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PN Tcl: Komodo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n IDE for scripting languag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zilla framework ba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oss-platform (Windows &amp; Linux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rn IDE fea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ral unique Tcl editing fea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ght integration of TclPro tools with Komo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odo 2.0 in develop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1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2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53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Komodo ID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komodo" descr=""/>
          <p:cNvPicPr/>
          <p:nvPr/>
        </p:nvPicPr>
        <p:blipFill>
          <a:blip r:embed="rId1"/>
          <a:stretch/>
        </p:blipFill>
        <p:spPr>
          <a:xfrm>
            <a:off x="638280" y="1030320"/>
            <a:ext cx="7819920" cy="5724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PN Tcl: Futur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inuing development of Tc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Pro 2.0 now in be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hanced debugger with integrated che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de coverage and hot-spot analysis 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ed user-friendly GUIs to Wrapper and Compi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er updated for 8.4 (and corrected for 8.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UI Builder in develop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ed loosely on SpecTc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ll be integrated with other too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8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9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60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61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In the Community…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81532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 Tcl’ers Wiki has increased in activ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 u="sng">
                <a:solidFill>
                  <a:srgbClr val="ff0000"/>
                </a:solidFill>
                <a:uFillTx/>
                <a:latin typeface="Lucida Console"/>
              </a:rPr>
              <a:t>http://wiki.tcl.t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ow with interactive c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 Tcl Developer Xchange official UR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http://www.tcl.t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http://tcl.ActiveState.com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l-URL! continues to provide weekly new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http://www.ddj.com/topics/tclur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Or subscribe to </a:t>
            </a: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tcl-announce@listserv.activestate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Lots of extension upd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698080" y="2022480"/>
            <a:ext cx="259632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 out the wiki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/Tk Today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72392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wnload rate stead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dows: 5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x: 4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: 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patch releases since 2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ble release now at 8.3.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ly new I/O core (added in 8.3.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degree of st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roved locale support in 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rts now exist for Windows/CE and Pal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649120" y="1641600"/>
            <a:ext cx="279900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veTcl downloa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649120" y="2403360"/>
            <a:ext cx="3024360" cy="119124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poi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~2x ActivePython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~1/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ctivePerl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/Tk 8.4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velopment release, now at 8.4b1-r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s just been feature-froz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w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spinbox, labelframe, panedwindo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dg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core feature enhanc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FS, </a:t>
            </a: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ls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command trac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 work on perform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ar or better than 8.0, with unicode and thread safe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clusion of numerous TI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ore later in 8.4 over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User Poll: Version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rsions in 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-8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4796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Response (out of 6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ser Poll: Platform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velop/Deplo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d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intosh OS 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intosh OS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a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P-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unix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4796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ponse (out of 6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0%/3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0%/5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/3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/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has happened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ments in the Tcl commun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ments of the Tcl/Tk c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ture dire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’Europe 2001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Hamburg, June 8-9, 2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14 Original papers and tutori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rom using Tcl with Cobol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   to Tcl on the Web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   to Tcl on a PDA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hanks to Carsten Zerbst</a:t>
            </a:r>
            <a:br>
              <a:rPr sz="3200"/>
            </a:br>
            <a:br>
              <a:rPr sz="3200"/>
            </a:br>
            <a:r>
              <a:rPr b="0" lang="en-CA" sz="2400" spc="-1" strike="noStrike">
                <a:solidFill>
                  <a:srgbClr val="000000"/>
                </a:solidFill>
                <a:latin typeface="Lucida Console"/>
              </a:rPr>
              <a:t>http://www.tu-harburg.de/skf/tcltk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uture Direction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ore is guided by community inp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one can write a TI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one can be a core maintai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sues are most pressing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eState will continue to work with the Tcl community and build more Tcl related produ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mos to fol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deas in the Pipelin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8037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More) improved Tcl 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chive file support (.jar/.zi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rger source / binary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cl Insta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-alone executable support in core (*wra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4-bit overha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54440" y="1447560"/>
            <a:ext cx="38037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maller, modular 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 &amp; Dr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ndows Tk 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nting sup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k abstraction layer (TkG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gawidgets (roll your ow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Widg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 core is robust, feature-ri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still pushing the bound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ture emphasis on packages and modula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is the key to an even more successful fu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bout ActiveSt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ctiveState provides multi-language, cross-platform software &amp;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, Perl, PHP, Python, XS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Linux, Solaris, Windows, HP-UX, AIX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e make it easy to use new technolog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Web Services and .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ission: Make Programming Eas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Our 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ctive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SP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563868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0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522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621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3716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9810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5909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004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4197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6386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2485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28600" y="1714680"/>
            <a:ext cx="0" cy="952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rot="16200000">
            <a:off x="2019240" y="1257120"/>
            <a:ext cx="228600" cy="38098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2400 h 3809880"/>
              <a:gd name="textAreaBottom" fmla="*/ 3777480 h 3809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10210"/>
                </a:lnTo>
                <a:cubicBezTo>
                  <a:pt x="10800" y="10505"/>
                  <a:pt x="5400" y="10799"/>
                  <a:pt x="0" y="10799"/>
                </a:cubicBezTo>
                <a:cubicBezTo>
                  <a:pt x="5400" y="10799"/>
                  <a:pt x="10800" y="11094"/>
                  <a:pt x="10800" y="11388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2133720" y="33523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6200000">
            <a:off x="5078160" y="2084040"/>
            <a:ext cx="228600" cy="2155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18360 h 2155680"/>
              <a:gd name="textAreaBottom" fmla="*/ 2137320 h 2155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7029"/>
                </a:lnTo>
                <a:cubicBezTo>
                  <a:pt x="10800" y="7324"/>
                  <a:pt x="5400" y="7618"/>
                  <a:pt x="0" y="7618"/>
                </a:cubicBezTo>
                <a:cubicBezTo>
                  <a:pt x="5400" y="7618"/>
                  <a:pt x="10800" y="7913"/>
                  <a:pt x="10800" y="8207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4876920" y="3352320"/>
            <a:ext cx="0" cy="1411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29460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41280" y="5846760"/>
            <a:ext cx="8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425680" y="584676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0360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020080" y="5830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M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036880" y="6006960"/>
            <a:ext cx="35856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263760" y="5999040"/>
            <a:ext cx="4651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738680" y="5999040"/>
            <a:ext cx="45720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276960" y="6006960"/>
            <a:ext cx="38088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11956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2280" y="3809880"/>
            <a:ext cx="2667240" cy="10670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pen source distrib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om U.C. Berkele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sy GUIs under Un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nsible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016080" y="4764240"/>
            <a:ext cx="3629160" cy="1066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enhanced at Sun Microsystem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s, Macintosh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/Internet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va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422520" y="1295280"/>
            <a:ext cx="3048120" cy="838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form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olve and extend Tcl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development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0240" y="1181160"/>
            <a:ext cx="3170160" cy="8762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reated as general-purpose command/scripting language by John Ousterh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64524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5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772400" y="5999040"/>
            <a:ext cx="3049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8098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8580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0292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4674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58080" y="4095720"/>
            <a:ext cx="28191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7931160" y="2971440"/>
            <a:ext cx="7920" cy="1066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0773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819792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57840" y="1143000"/>
            <a:ext cx="2416320" cy="914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7499520" y="2971800"/>
            <a:ext cx="368280" cy="44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756400" y="3419640"/>
            <a:ext cx="1949400" cy="571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957320" y="2400480"/>
            <a:ext cx="633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156120" y="2400480"/>
            <a:ext cx="642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37184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4 Ju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029200" y="2400480"/>
            <a:ext cx="54756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6 O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804000" y="2400480"/>
            <a:ext cx="5716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1 A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0" y="3029040"/>
            <a:ext cx="59832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2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461360" y="2400480"/>
            <a:ext cx="5587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3 F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8839080" y="257184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49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8656560" y="2571840"/>
            <a:ext cx="48564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 flipV="1">
            <a:off x="6883560" y="3282840"/>
            <a:ext cx="0" cy="860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3193920" y="3276360"/>
            <a:ext cx="0" cy="191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1828800" y="3276360"/>
            <a:ext cx="0" cy="866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63868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" y="1509840"/>
            <a:ext cx="0" cy="1461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600200" y="2238480"/>
            <a:ext cx="0" cy="733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cent 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000240" y="5189400"/>
            <a:ext cx="2990880" cy="10479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; Tcl/Tk core moves to SourceForge; TclPro open sourced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963960" y="1666800"/>
            <a:ext cx="0" cy="130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648240" y="1057320"/>
            <a:ext cx="2771640" cy="6094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2443320" y="3265200"/>
            <a:ext cx="0" cy="193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53920" y="5200560"/>
            <a:ext cx="19497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2860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60036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162320" y="2590920"/>
            <a:ext cx="943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39680" y="3524400"/>
            <a:ext cx="9288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0 Fe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90680" y="2467080"/>
            <a:ext cx="952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1 Ap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952640" y="2467080"/>
            <a:ext cx="9716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2 Au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308240" y="3648240"/>
            <a:ext cx="98568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1 Ju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949480" y="3648240"/>
            <a:ext cx="100980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2 No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39680" y="1176480"/>
            <a:ext cx="2573280" cy="3333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2K in Austin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03280" y="1666800"/>
            <a:ext cx="205128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becomes Ajuba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714840" y="4019400"/>
            <a:ext cx="1923840" cy="5526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1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5148360" y="3276360"/>
            <a:ext cx="0" cy="74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57880" y="1819440"/>
            <a:ext cx="212400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419880" y="480060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. ActiveTcl 8.3.4.3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7772400" y="32763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7848720" y="3276360"/>
            <a:ext cx="0" cy="618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8035920" y="2052720"/>
            <a:ext cx="914400" cy="371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 8.4.0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44520" y="4143240"/>
            <a:ext cx="194940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0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3454560" y="4782960"/>
            <a:ext cx="433080" cy="417600"/>
            <a:chOff x="3454560" y="4782960"/>
            <a:chExt cx="433080" cy="417600"/>
          </a:xfrm>
        </p:grpSpPr>
        <p:sp>
          <p:nvSpPr>
            <p:cNvPr id="183" name=""/>
            <p:cNvSpPr/>
            <p:nvPr/>
          </p:nvSpPr>
          <p:spPr>
            <a:xfrm>
              <a:off x="3679560" y="49046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55896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355824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50676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350640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506400" y="4974480"/>
              <a:ext cx="31176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454560" y="4902840"/>
              <a:ext cx="4330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7772400" y="283860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7900920" y="6278400"/>
            <a:ext cx="1045800" cy="276480"/>
            <a:chOff x="7900920" y="6278400"/>
            <a:chExt cx="1045800" cy="276480"/>
          </a:xfrm>
        </p:grpSpPr>
        <p:sp>
          <p:nvSpPr>
            <p:cNvPr id="192" name=""/>
            <p:cNvSpPr/>
            <p:nvPr/>
          </p:nvSpPr>
          <p:spPr>
            <a:xfrm>
              <a:off x="7921800" y="627840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900920" y="627840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5357880" y="340056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Ju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962760" y="2971800"/>
            <a:ext cx="1886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96080" y="3886200"/>
            <a:ext cx="914400" cy="371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1320" y="259092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M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8305920" y="2486160"/>
            <a:ext cx="0" cy="48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143760" y="3733920"/>
            <a:ext cx="9428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4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824440" y="4143240"/>
            <a:ext cx="17337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. ActiveState TclPro (De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691320" y="5505480"/>
            <a:ext cx="221148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2. ActiveState TclPro 2.0 beta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Usag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cl usage is still grow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extensively for mission-critical applica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sco, Motorola, Lucent, Nortel, etc.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omated hardware tes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different pieces of test equip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cl soon to be standard on all Cisco rou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OL Digital City, Travelocit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ynamic Web cont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e information from different 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ent developers are not programm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Usage, Cont’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mission-critical applica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BC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gital broadcast control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x programming content, control transmission through satellites to local st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xa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d in animation tools (RenderMan softwar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ical directors write Tcl scripts to animate charac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ell O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al-time control for offshore oil platfor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, manage various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tatus As of 8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Tcl Conferenc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7543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 O’Reilly Open Source Convention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n Diego, July 2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/Tk 8.3.3 was the stable version (8.3.x now standard in Linux distribution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.4a3 was just relea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eState was just establishing with Tcl experti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All User</cp:lastModifiedBy>
  <cp:lastPrinted>1999-01-02T23:07:33Z</cp:lastPrinted>
  <dcterms:modified xsi:type="dcterms:W3CDTF">2002-07-04T19:26:31Z</dcterms:modified>
  <cp:revision>405</cp:revision>
  <dc:subject/>
  <dc:title>Tcl'Europe 2002 State of Tcl</dc:title>
</cp:coreProperties>
</file>