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09DD-5462-4D78-B765-618F497D8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49B2-492A-4AA7-B25E-8515F38E5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F1E3-0138-441F-AD3F-7C05BE28B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8EC4-2CE8-4451-A48A-DB9FC4D09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AAA6-7ED8-4ABD-A645-43F1B5491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07FA-38C5-44A6-8F64-3484C5882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071B-F050-461D-8AC8-8B51CAA28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5609-9247-4EDF-B894-403801C13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05E8-A9E9-4128-8F8D-84880E7FC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3B8D-BD35-4423-B9DC-8D502C85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A748-71EF-43B3-9EC4-D37152E2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4996-E491-4FDC-94F0-5AEB57D4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70CDD-CC11-4667-A614-C7B5625339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752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08480" y="4343400"/>
            <a:ext cx="4149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unihiro Ishigu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kunihiro@digital-magic.co.jp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’s zebr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provide full routing p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process per one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Server &amp; Route Reflector integ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thread based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cy control and filt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it can announce routing informa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support is undergo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ederation support is not yet im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regular expression match not yet im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further bgpd-pre-XXX re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v1 RIPv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46483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94760" y="2286000"/>
            <a:ext cx="138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y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-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19360" y="2286000"/>
            <a:ext cx="207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ole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ole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04800" y="5299200"/>
            <a:ext cx="48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some lines of code for RI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face hand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do not use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ctl(sock,SIOCGICONF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u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ctl (mib, MIBSIZ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can handle unlimited number of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has unlimited size of FD_SET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ebra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55360" y="31240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54840" y="31240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7520" y="312408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01160" y="31240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5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4648320"/>
            <a:ext cx="59436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528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7712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9760" y="50292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24480" y="5105520"/>
            <a:ext cx="838440" cy="6094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81680" y="4114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20968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19051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73392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33920" y="20574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8168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257800" y="2209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57800" y="2209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ou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mr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1981080"/>
            <a:ext cx="2895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2819520"/>
            <a:ext cx="28958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3581280"/>
            <a:ext cx="28958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4343400"/>
            <a:ext cx="2895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62720" y="1981080"/>
            <a:ext cx="289548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64120" y="518148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07160" y="5181480"/>
            <a:ext cx="67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213372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89548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365760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441972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2209680"/>
            <a:ext cx="457200" cy="2667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324480" y="2438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6324480" y="2743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6324480" y="3048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32448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32448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324480" y="3962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3244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324480" y="4572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33240" y="32767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98108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981080" y="2362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981080" y="2514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981080" y="2971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9810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981080" y="3276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981080" y="3733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98108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981080" y="4038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981080" y="4495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981080" y="4648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81080" y="4800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89840" y="21337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89840" y="28954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89840" y="365760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9840" y="44956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1640" y="28954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2360" y="213372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6760" y="365760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840" y="441972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76920" y="320040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world with 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develop each protocol daemon separat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only need BGPd for Route Server and/or Rout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disable protocol by killing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debug 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ML (English onl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Home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rd 0.2 will be out soon. They will change interface from C-thread to P-th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til that we develop thread routine under Solaris 2.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5T01:36:12Z</dcterms:created>
  <dc:creator>Digital Magic Labs, Inc.</dc:creator>
  <dc:description/>
  <dc:language>en-US</dc:language>
  <cp:lastModifiedBy>Digital Magic Labs, Inc.</cp:lastModifiedBy>
  <cp:lastPrinted>1997-03-26T08:43:22Z</cp:lastPrinted>
  <dcterms:modified xsi:type="dcterms:W3CDTF">1997-03-26T08:48:16Z</dcterms:modified>
  <cp:revision>4</cp:revision>
  <dc:subject/>
  <dc:title>zebra</dc:title>
</cp:coreProperties>
</file>