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7EF96-71DB-429B-82A7-C447D8A78D19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Times New Roman"/>
              </a:rPr>
              <a:t>screen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Times New Roman"/>
              </a:rPr>
              <a:t>screen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3D486-3FDE-4EAB-B8B5-4644E3B8E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099AD-7859-4C8A-B4DE-498B86700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F04BB-5932-4876-904D-94C518F65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9C400-47CE-4EB1-AC27-9D7977821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4A145-9DE5-46A3-BF19-1D9922AEA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28BB7-C2BE-4D0C-952D-00B5A08C1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24717-E56E-4B20-88B9-03F9CE4E2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BD00D-BDD9-45EE-90B0-AB3B6A7DC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A7FAC-07D0-4F06-AFF7-53B94E6B9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2B515-68E0-48C6-96CD-F2F373777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F064F-1F6A-4546-BA0B-B48EF0019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4ABB4-96E8-4608-AD87-9DA63A082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6E125-9C4D-43F6-928A-DA0E450D73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477720" y="571680"/>
          <a:ext cx="8190000" cy="571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7720" y="571680"/>
                    <a:ext cx="819000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468360" y="576360"/>
          <a:ext cx="8209080" cy="570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576360"/>
                    <a:ext cx="8209080" cy="570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01T14:58:50Z</dcterms:created>
  <dc:creator>Ing. Industrial</dc:creator>
  <dc:description/>
  <dc:language>en-US</dc:language>
  <cp:lastModifiedBy>Ing. Industrial</cp:lastModifiedBy>
  <dcterms:modified xsi:type="dcterms:W3CDTF">2003-12-01T15:37:20Z</dcterms:modified>
  <cp:revision>2</cp:revision>
  <dc:subject/>
  <dc:title>Presentación de PowerPoint</dc:title>
</cp:coreProperties>
</file>