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dt" idx="3"/>
          </p:nvPr>
        </p:nvSpPr>
        <p:spPr>
          <a:xfrm>
            <a:off x="3884760" y="-360"/>
            <a:ext cx="296064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0840" cy="3417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4"/>
          </p:nvPr>
        </p:nvSpPr>
        <p:spPr>
          <a:xfrm>
            <a:off x="3884760" y="8685000"/>
            <a:ext cx="296064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D679DB-1A67-49FA-A12E-1C14076706B4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1B134B-52C9-438F-A48E-55FBCEB3196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F0BD49-8DEE-4A3F-B185-F2DC469B704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B7FAA2-3E85-48AD-90F8-8DD86B91177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513EA0-0920-466F-BF4E-09053811D74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CA5B5D-473E-43EF-9CC1-8273FB83856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6AEBB5-319A-47BD-BFCC-3D4C3FAD486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143000" y="68580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1143000" y="68580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0E044F-8E4B-49D9-8896-6C213F13C33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8F2399-1D6B-405A-B529-AE924C7EB3A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5F5562-AEF5-4EEE-ADA3-F05EE11AEBE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3CD9A9-58B6-4F4B-BBFE-CC82B0CDCBD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38FA97-F7F9-4637-B949-C5226CCF587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44EFD0-8A77-4083-98D2-C1414FC27C0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EAA2C6-8CB0-4957-8718-F5BB3EBE7A3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8FAD78-3BCF-4832-8927-C194D07F581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7A55B3-FB34-4AE7-91E5-D5077D91260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47DD50-C3CE-4C6C-A159-05C86B88CDA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CA4CF4-1D6A-43F5-A921-017A215BDB6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415248-36ED-4DF2-995B-2E7FFD3E6D0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AE4642-C7CD-4193-A55D-33E4C1D360C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F5E1D0-D9F9-4152-A347-1276409D480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5FC22E-0D5C-47D0-9F32-478F507BD78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C821A2-86D3-49C8-996A-B6C119D22EF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70E8DC-3725-49B1-901C-DAC0C5436CA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DA0A36-FF98-487D-A331-3BC46858279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38CA8B-09F8-467E-BE1B-31AA52A1053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C8AC58-93DE-4531-9CD5-AFBD2B66262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D0EA4D-83F0-414E-A71A-19DB8DC516F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891E06-90DD-4FA6-80AC-406997C90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4DC7A7-47CA-4501-8AC5-82713B4C2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568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416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568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416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BBFEF2-FA55-4158-B145-5F1AC47C9BD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2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E21688-8B8D-4102-9DC1-31FB76B94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D0D1FC-D229-47A7-BEEC-B59768A10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8B31EC-FFF0-4DB3-A4AE-D86EB067D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A116A8-63AD-4D09-A4F3-E0B2747C5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18440" cy="660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62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7E3302-ECC2-4B5A-BDCB-A86802FD1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19FE2A-64DB-416A-AA30-733DA8C1D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D58CCF-5C2A-4134-BF87-3C94E3BB5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52C832-CBDA-4A87-B364-9E26CC84B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1920" indent="-33192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225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898989"/>
                </a:solidFill>
                <a:latin typeface="Calibri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  <a:ea typeface="DejaVu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08640"/>
            <a:ext cx="28958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225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898989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C71FCA-342A-42AE-8574-76C2A23496AD}" type="slidenum">
              <a:rPr b="0" lang="en-GB" sz="1200" spc="-1" strike="noStrike">
                <a:solidFill>
                  <a:srgbClr val="898989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exTk/NtkWidge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A replacement for Tk ?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tructure of ntkWidg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/>
          <p:nvPr/>
        </p:nvSpPr>
        <p:spPr>
          <a:xfrm>
            <a:off x="500040" y="5786280"/>
            <a:ext cx="1285920" cy="8733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X11-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unix/linux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/>
          <p:nvPr/>
        </p:nvSpPr>
        <p:spPr>
          <a:xfrm>
            <a:off x="3786120" y="5857920"/>
            <a:ext cx="1285920" cy="801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DI-Libra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win32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/>
          <p:nvPr/>
        </p:nvSpPr>
        <p:spPr>
          <a:xfrm>
            <a:off x="7020000" y="5837400"/>
            <a:ext cx="1357200" cy="822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X11-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MacOS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/>
          <p:nvPr/>
        </p:nvSpPr>
        <p:spPr>
          <a:xfrm>
            <a:off x="500040" y="4429080"/>
            <a:ext cx="7858080" cy="500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LMWFW (Graphic Library Multi Window FrameWork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/>
          <p:nvPr/>
        </p:nvSpPr>
        <p:spPr>
          <a:xfrm>
            <a:off x="2714760" y="5143680"/>
            <a:ext cx="3429000" cy="428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openG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7" name=""/>
          <p:cNvCxnSpPr>
            <a:endCxn id="92" idx="0"/>
          </p:cNvCxnSpPr>
          <p:nvPr/>
        </p:nvCxnSpPr>
        <p:spPr>
          <a:xfrm>
            <a:off x="1143000" y="4573080"/>
            <a:ext cx="2160" cy="1213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endCxn id="94" idx="0"/>
          </p:cNvCxnSpPr>
          <p:nvPr/>
        </p:nvCxnSpPr>
        <p:spPr>
          <a:xfrm flipH="1">
            <a:off x="7698960" y="4571640"/>
            <a:ext cx="16560" cy="1266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6" idx="2"/>
            <a:endCxn id="93" idx="0"/>
          </p:cNvCxnSpPr>
          <p:nvPr/>
        </p:nvCxnSpPr>
        <p:spPr>
          <a:xfrm>
            <a:off x="4428720" y="5572080"/>
            <a:ext cx="2520" cy="28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5" idx="2"/>
            <a:endCxn id="96" idx="0"/>
          </p:cNvCxnSpPr>
          <p:nvPr/>
        </p:nvCxnSpPr>
        <p:spPr>
          <a:xfrm>
            <a:off x="4428720" y="4929120"/>
            <a:ext cx="2520" cy="21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endCxn id="93" idx="1"/>
          </p:cNvCxnSpPr>
          <p:nvPr/>
        </p:nvCxnSpPr>
        <p:spPr>
          <a:xfrm>
            <a:off x="999720" y="4572000"/>
            <a:ext cx="2786760" cy="16884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3606840" y="3600360"/>
            <a:ext cx="1614600" cy="5716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megaima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/>
          <p:nvPr/>
        </p:nvSpPr>
        <p:spPr>
          <a:xfrm>
            <a:off x="5429160" y="285768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freetyp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/>
          <p:nvPr/>
        </p:nvSpPr>
        <p:spPr>
          <a:xfrm>
            <a:off x="3786120" y="285768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nd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/>
          <p:nvPr/>
        </p:nvSpPr>
        <p:spPr>
          <a:xfrm>
            <a:off x="3786120" y="207180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ri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/>
          <p:nvPr/>
        </p:nvSpPr>
        <p:spPr>
          <a:xfrm>
            <a:off x="3786120" y="128592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/>
          <p:nvPr/>
        </p:nvSpPr>
        <p:spPr>
          <a:xfrm>
            <a:off x="5357880" y="128592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t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/>
          <p:nvPr/>
        </p:nvSpPr>
        <p:spPr>
          <a:xfrm>
            <a:off x="2214720" y="1285920"/>
            <a:ext cx="128556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/>
          <p:nvPr/>
        </p:nvSpPr>
        <p:spPr>
          <a:xfrm>
            <a:off x="6929280" y="128592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/>
          <p:nvPr/>
        </p:nvSpPr>
        <p:spPr>
          <a:xfrm>
            <a:off x="642960" y="128592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1" name=""/>
          <p:cNvCxnSpPr>
            <a:stCxn id="102" idx="2"/>
            <a:endCxn id="95" idx="0"/>
          </p:cNvCxnSpPr>
          <p:nvPr/>
        </p:nvCxnSpPr>
        <p:spPr>
          <a:xfrm>
            <a:off x="4413240" y="4172040"/>
            <a:ext cx="16560" cy="2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4" idx="2"/>
            <a:endCxn id="102" idx="0"/>
          </p:cNvCxnSpPr>
          <p:nvPr/>
        </p:nvCxnSpPr>
        <p:spPr>
          <a:xfrm flipH="1">
            <a:off x="4412880" y="3429000"/>
            <a:ext cx="15120" cy="17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3" name=""/>
          <p:cNvCxnSpPr/>
          <p:nvPr/>
        </p:nvCxnSpPr>
        <p:spPr>
          <a:xfrm flipH="1">
            <a:off x="4428360" y="2643120"/>
            <a:ext cx="2520" cy="21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4" name=""/>
          <p:cNvCxnSpPr/>
          <p:nvPr/>
        </p:nvCxnSpPr>
        <p:spPr>
          <a:xfrm flipH="1">
            <a:off x="4428360" y="1857240"/>
            <a:ext cx="2520" cy="21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03" idx="1"/>
            <a:endCxn id="104" idx="3"/>
          </p:cNvCxnSpPr>
          <p:nvPr/>
        </p:nvCxnSpPr>
        <p:spPr>
          <a:xfrm flipH="1">
            <a:off x="5071680" y="3142800"/>
            <a:ext cx="35784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08" idx="2"/>
            <a:endCxn id="105" idx="1"/>
          </p:cNvCxnSpPr>
          <p:nvPr/>
        </p:nvCxnSpPr>
        <p:spPr>
          <a:xfrm>
            <a:off x="2857320" y="1856880"/>
            <a:ext cx="929160" cy="50076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7" name=""/>
          <p:cNvCxnSpPr>
            <a:stCxn id="107" idx="2"/>
            <a:endCxn id="105" idx="3"/>
          </p:cNvCxnSpPr>
          <p:nvPr/>
        </p:nvCxnSpPr>
        <p:spPr>
          <a:xfrm flipV="1" rot="10800000">
            <a:off x="5071320" y="1856880"/>
            <a:ext cx="929520" cy="500760"/>
          </a:xfrm>
          <a:prstGeom prst="bentConnector3">
            <a:avLst>
              <a:gd name="adj1" fmla="val 4998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96" idx="1"/>
            <a:endCxn id="92" idx="0"/>
          </p:cNvCxnSpPr>
          <p:nvPr/>
        </p:nvCxnSpPr>
        <p:spPr>
          <a:xfrm flipH="1">
            <a:off x="1142640" y="5357880"/>
            <a:ext cx="1572480" cy="429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96" idx="3"/>
            <a:endCxn id="94" idx="0"/>
          </p:cNvCxnSpPr>
          <p:nvPr/>
        </p:nvCxnSpPr>
        <p:spPr>
          <a:xfrm>
            <a:off x="6143400" y="5357880"/>
            <a:ext cx="1556280" cy="480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Building Tk like widge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idget parts are for example: window, border, text, scrollb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very widget part is an image (a rectangle, a polygon, a text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idget parts are put together using blending functions (megaimage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ransparency (alpha factor) is taken care of during blen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 root window is also a widget/image which is handled during blen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ndering of a widget (label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/>
          <p:nvPr/>
        </p:nvSpPr>
        <p:spPr>
          <a:xfrm>
            <a:off x="1071720" y="1357200"/>
            <a:ext cx="1571400" cy="5716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op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/>
          <p:nvPr/>
        </p:nvSpPr>
        <p:spPr>
          <a:xfrm>
            <a:off x="1071720" y="2357280"/>
            <a:ext cx="1571400" cy="500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ackgrou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/>
          <p:nvPr/>
        </p:nvSpPr>
        <p:spPr>
          <a:xfrm>
            <a:off x="3143160" y="3286080"/>
            <a:ext cx="1571760" cy="500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Label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/>
          <p:nvPr/>
        </p:nvSpPr>
        <p:spPr>
          <a:xfrm>
            <a:off x="1928880" y="1928880"/>
            <a:ext cx="484200" cy="4284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/>
          <p:nvPr/>
        </p:nvSpPr>
        <p:spPr>
          <a:xfrm>
            <a:off x="4000680" y="2857680"/>
            <a:ext cx="483840" cy="4284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/>
          <p:nvPr/>
        </p:nvSpPr>
        <p:spPr>
          <a:xfrm>
            <a:off x="3143160" y="2357280"/>
            <a:ext cx="1571760" cy="500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ackgrou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/>
          <p:nvPr/>
        </p:nvSpPr>
        <p:spPr>
          <a:xfrm>
            <a:off x="2643120" y="2428920"/>
            <a:ext cx="478080" cy="484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/>
          <p:nvPr/>
        </p:nvSpPr>
        <p:spPr>
          <a:xfrm>
            <a:off x="1214280" y="1928880"/>
            <a:ext cx="484200" cy="4064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/>
          <p:nvPr/>
        </p:nvSpPr>
        <p:spPr>
          <a:xfrm>
            <a:off x="3286080" y="2857680"/>
            <a:ext cx="484200" cy="4060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714680" y="4286160"/>
            <a:ext cx="2071440" cy="1357560"/>
            <a:chOff x="1714680" y="4286160"/>
            <a:chExt cx="2071440" cy="1357560"/>
          </a:xfrm>
        </p:grpSpPr>
        <p:sp>
          <p:nvSpPr>
            <p:cNvPr id="133" name=""/>
            <p:cNvSpPr/>
            <p:nvPr/>
          </p:nvSpPr>
          <p:spPr>
            <a:xfrm>
              <a:off x="2214720" y="5214960"/>
              <a:ext cx="1571400" cy="4287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Right borde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71880" y="4786200"/>
              <a:ext cx="484200" cy="42876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214720" y="4286160"/>
              <a:ext cx="1571400" cy="500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Backgroun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714680" y="4286160"/>
              <a:ext cx="477720" cy="4842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357280" y="4786200"/>
              <a:ext cx="484200" cy="4064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4714920" y="2428920"/>
            <a:ext cx="2071800" cy="1357200"/>
            <a:chOff x="4714920" y="2428920"/>
            <a:chExt cx="2071800" cy="1357200"/>
          </a:xfrm>
        </p:grpSpPr>
        <p:sp>
          <p:nvSpPr>
            <p:cNvPr id="139" name=""/>
            <p:cNvSpPr/>
            <p:nvPr/>
          </p:nvSpPr>
          <p:spPr>
            <a:xfrm>
              <a:off x="5214960" y="3357720"/>
              <a:ext cx="1571760" cy="4284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Left borde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072120" y="2928960"/>
              <a:ext cx="484200" cy="42876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214960" y="2428920"/>
              <a:ext cx="1571760" cy="500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Calibri"/>
                </a:rPr>
                <a:t>Ba</a:t>
              </a: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ckgroun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714920" y="2428920"/>
              <a:ext cx="477720" cy="4842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357880" y="2928960"/>
              <a:ext cx="484200" cy="4064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3786120" y="4286160"/>
            <a:ext cx="2071800" cy="1357560"/>
            <a:chOff x="3786120" y="4286160"/>
            <a:chExt cx="2071800" cy="1357560"/>
          </a:xfrm>
        </p:grpSpPr>
        <p:sp>
          <p:nvSpPr>
            <p:cNvPr id="145" name=""/>
            <p:cNvSpPr/>
            <p:nvPr/>
          </p:nvSpPr>
          <p:spPr>
            <a:xfrm>
              <a:off x="4286160" y="5214960"/>
              <a:ext cx="1571760" cy="4287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Top borde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143680" y="4786200"/>
              <a:ext cx="483840" cy="42876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86160" y="4286160"/>
              <a:ext cx="1571760" cy="500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Backgroun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786120" y="4286160"/>
              <a:ext cx="478080" cy="4842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429080" y="4786200"/>
              <a:ext cx="484200" cy="4064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5857920" y="4286160"/>
            <a:ext cx="2071800" cy="1357560"/>
            <a:chOff x="5857920" y="4286160"/>
            <a:chExt cx="2071800" cy="1357560"/>
          </a:xfrm>
        </p:grpSpPr>
        <p:sp>
          <p:nvSpPr>
            <p:cNvPr id="151" name=""/>
            <p:cNvSpPr/>
            <p:nvPr/>
          </p:nvSpPr>
          <p:spPr>
            <a:xfrm>
              <a:off x="6357960" y="5214960"/>
              <a:ext cx="1571760" cy="4287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Bottom borde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215120" y="4786200"/>
              <a:ext cx="484200" cy="42876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357960" y="4286160"/>
              <a:ext cx="1571760" cy="500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Backgroun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857920" y="4286160"/>
              <a:ext cx="477720" cy="4842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500880" y="4786200"/>
              <a:ext cx="484200" cy="4064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6786720" y="2428920"/>
            <a:ext cx="477720" cy="484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/>
          <p:nvPr/>
        </p:nvSpPr>
        <p:spPr>
          <a:xfrm>
            <a:off x="7215120" y="3857760"/>
            <a:ext cx="484200" cy="4284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Hierarc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/>
          <p:nvPr/>
        </p:nvSpPr>
        <p:spPr>
          <a:xfrm>
            <a:off x="714240" y="14288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help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/>
          <p:nvPr/>
        </p:nvSpPr>
        <p:spPr>
          <a:xfrm>
            <a:off x="2714760" y="14288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nd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/>
          <p:nvPr/>
        </p:nvSpPr>
        <p:spPr>
          <a:xfrm>
            <a:off x="2714760" y="27860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/>
          <p:nvPr/>
        </p:nvSpPr>
        <p:spPr>
          <a:xfrm>
            <a:off x="5759280" y="2814480"/>
            <a:ext cx="164340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ri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/>
          <p:nvPr/>
        </p:nvSpPr>
        <p:spPr>
          <a:xfrm>
            <a:off x="2714760" y="407196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heme / ttk the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/>
          <p:nvPr/>
        </p:nvSpPr>
        <p:spPr>
          <a:xfrm>
            <a:off x="4929120" y="14288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ridManag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0" y="14288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ridDa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6" name=""/>
          <p:cNvCxnSpPr>
            <a:stCxn id="159" idx="2"/>
            <a:endCxn id="161" idx="1"/>
          </p:cNvCxnSpPr>
          <p:nvPr/>
        </p:nvCxnSpPr>
        <p:spPr>
          <a:xfrm>
            <a:off x="1534680" y="2214360"/>
            <a:ext cx="1180440" cy="9658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67" name=""/>
          <p:cNvCxnSpPr>
            <a:stCxn id="160" idx="2"/>
            <a:endCxn id="161" idx="0"/>
          </p:cNvCxnSpPr>
          <p:nvPr/>
        </p:nvCxnSpPr>
        <p:spPr>
          <a:xfrm>
            <a:off x="3537000" y="2214360"/>
            <a:ext cx="2160" cy="5720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68" name=""/>
          <p:cNvCxnSpPr>
            <a:stCxn id="164" idx="2"/>
            <a:endCxn id="162" idx="0"/>
          </p:cNvCxnSpPr>
          <p:nvPr/>
        </p:nvCxnSpPr>
        <p:spPr>
          <a:xfrm>
            <a:off x="5749920" y="2214720"/>
            <a:ext cx="830880" cy="600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69" name=""/>
          <p:cNvCxnSpPr>
            <a:stCxn id="165" idx="2"/>
            <a:endCxn id="162" idx="0"/>
          </p:cNvCxnSpPr>
          <p:nvPr/>
        </p:nvCxnSpPr>
        <p:spPr>
          <a:xfrm flipH="1">
            <a:off x="6579720" y="2214720"/>
            <a:ext cx="1099440" cy="600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0" name=""/>
          <p:cNvCxnSpPr>
            <a:stCxn id="161" idx="2"/>
            <a:endCxn id="163" idx="0"/>
          </p:cNvCxnSpPr>
          <p:nvPr/>
        </p:nvCxnSpPr>
        <p:spPr>
          <a:xfrm>
            <a:off x="3537000" y="3571560"/>
            <a:ext cx="2160" cy="50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1" name=""/>
          <p:cNvCxnSpPr>
            <a:stCxn id="163" idx="2"/>
            <a:endCxn id="172" idx="0"/>
          </p:cNvCxnSpPr>
          <p:nvPr/>
        </p:nvCxnSpPr>
        <p:spPr>
          <a:xfrm>
            <a:off x="3537000" y="4857840"/>
            <a:ext cx="2160" cy="429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3" name=""/>
          <p:cNvCxnSpPr>
            <a:stCxn id="162" idx="1"/>
            <a:endCxn id="161" idx="3"/>
          </p:cNvCxnSpPr>
          <p:nvPr/>
        </p:nvCxnSpPr>
        <p:spPr>
          <a:xfrm flipH="1" flipV="1">
            <a:off x="4357080" y="3177720"/>
            <a:ext cx="1402200" cy="29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72" name=""/>
          <p:cNvSpPr/>
          <p:nvPr/>
        </p:nvSpPr>
        <p:spPr>
          <a:xfrm>
            <a:off x="2714760" y="52862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"/>
          <p:cNvSpPr/>
          <p:nvPr/>
        </p:nvSpPr>
        <p:spPr>
          <a:xfrm>
            <a:off x="5770440" y="5249880"/>
            <a:ext cx="1643040" cy="785880"/>
          </a:xfrm>
          <a:prstGeom prst="rect">
            <a:avLst/>
          </a:prstGeom>
          <a:solidFill>
            <a:srgbClr val="808080"/>
          </a:solidFill>
          <a:ln w="25560">
            <a:solidFill>
              <a:srgbClr val="83ca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l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4073400"/>
            <a:ext cx="1643400" cy="785880"/>
          </a:xfrm>
          <a:prstGeom prst="rect">
            <a:avLst/>
          </a:prstGeom>
          <a:solidFill>
            <a:srgbClr val="80808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6" name=""/>
          <p:cNvCxnSpPr>
            <a:endCxn id="161" idx="3"/>
          </p:cNvCxnSpPr>
          <p:nvPr/>
        </p:nvCxnSpPr>
        <p:spPr>
          <a:xfrm flipH="1" flipV="1">
            <a:off x="4357080" y="3177360"/>
            <a:ext cx="1402200" cy="131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7" name=""/>
          <p:cNvCxnSpPr>
            <a:endCxn id="161" idx="3"/>
          </p:cNvCxnSpPr>
          <p:nvPr/>
        </p:nvCxnSpPr>
        <p:spPr>
          <a:xfrm flipH="1" flipV="1">
            <a:off x="4357080" y="3177720"/>
            <a:ext cx="1402200" cy="2455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base widge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/>
          <p:nvPr/>
        </p:nvSpPr>
        <p:spPr>
          <a:xfrm>
            <a:off x="3214800" y="128592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/>
          <p:nvPr/>
        </p:nvSpPr>
        <p:spPr>
          <a:xfrm>
            <a:off x="3214800" y="228600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Check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/>
          <p:nvPr/>
        </p:nvSpPr>
        <p:spPr>
          <a:xfrm>
            <a:off x="3214800" y="278604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Clo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/>
          <p:cNvSpPr/>
          <p:nvPr/>
        </p:nvSpPr>
        <p:spPr>
          <a:xfrm>
            <a:off x="3214800" y="178596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"/>
          <p:cNvSpPr/>
          <p:nvPr/>
        </p:nvSpPr>
        <p:spPr>
          <a:xfrm>
            <a:off x="3214800" y="328608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t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/>
          <p:nvPr/>
        </p:nvSpPr>
        <p:spPr>
          <a:xfrm>
            <a:off x="3214800" y="378612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Fra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/>
          <p:nvPr/>
        </p:nvSpPr>
        <p:spPr>
          <a:xfrm>
            <a:off x="3214800" y="4286160"/>
            <a:ext cx="1643040" cy="4287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List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"/>
          <p:cNvSpPr/>
          <p:nvPr/>
        </p:nvSpPr>
        <p:spPr>
          <a:xfrm>
            <a:off x="3214800" y="485784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Men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/>
          <p:nvPr/>
        </p:nvSpPr>
        <p:spPr>
          <a:xfrm>
            <a:off x="3214800" y="535788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/>
          <p:nvPr/>
        </p:nvSpPr>
        <p:spPr>
          <a:xfrm>
            <a:off x="3214800" y="585792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op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172800"/>
            <a:ext cx="822816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comman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::ntk toplevel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button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checkbox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clock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window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keyPress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mousePress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widgetImage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72800"/>
            <a:ext cx="822816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code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"/>
          <p:cNvSpPr/>
          <p:nvPr/>
        </p:nvSpPr>
        <p:spPr>
          <a:xfrm>
            <a:off x="1160640" y="1260360"/>
            <a:ext cx="6848280" cy="53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package require ntkWidg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# set the root windows tit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::ntk::glmwfw::Glmwfw setWindowTitle $ntk::_win "NtkWidget Button Demo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proc flipName {win}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et name [$win cget -text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witch $name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Arnulf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$win configure -text Wiedeman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Wiedemann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$win configure -text Arnul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et rotate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if {[llength $argv] &gt; 0}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et rotate [lindex $argv 0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et wPath [ntk button .w -width 100 -height 100 -xoffset 50 -yoffset 50 \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-text Arnulf -textcolor [list 0 0 0 255] -bd 2 -bg [list 255 255 255 255]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$wPath configure -command [list flipName $wPath] -rotate $rot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# pack the widget using ntkWidget grid manag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ntk grid $wPa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" y="1535040"/>
            <a:ext cx="4040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Default style Tbutton op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anchor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en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padding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[list 3 3]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width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relief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ais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shiftrelief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window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fffff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frame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d9d9d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disabledfg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a3a3a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"/>
          <p:cNvSpPr/>
          <p:nvPr/>
        </p:nvSpPr>
        <p:spPr>
          <a:xfrm>
            <a:off x="4645080" y="1535040"/>
            <a:ext cx="404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Clam style Tbutton op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"/>
          <p:cNvSpPr/>
          <p:nvPr/>
        </p:nvSpPr>
        <p:spPr>
          <a:xfrm>
            <a:off x="464508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anchor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en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padding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width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1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relief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ais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window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fffff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frame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cdad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disabledfg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999999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layou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" y="1535040"/>
            <a:ext cx="4040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Default layout TButt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Backgrou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ord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Focusr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Padd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Focus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Padd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/>
          <p:nvPr/>
        </p:nvSpPr>
        <p:spPr>
          <a:xfrm>
            <a:off x="4645080" y="1535040"/>
            <a:ext cx="404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lam layout TButt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"/>
          <p:cNvSpPr/>
          <p:nvPr/>
        </p:nvSpPr>
        <p:spPr>
          <a:xfrm>
            <a:off x="4645080" y="2174760"/>
            <a:ext cx="4041720" cy="430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ackgrou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ord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Focusr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Padd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st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"/>
          <p:cNvSpPr/>
          <p:nvPr/>
        </p:nvSpPr>
        <p:spPr>
          <a:xfrm>
            <a:off x="4645080" y="2174760"/>
            <a:ext cx="404172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"/>
          <p:cNvSpPr/>
          <p:nvPr/>
        </p:nvSpPr>
        <p:spPr>
          <a:xfrm>
            <a:off x="457200" y="1600200"/>
            <a:ext cx="8228160" cy="44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ctiv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lterna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backgrou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disabl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foc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nval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press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readonl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select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History of NexT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George Peter Staplin (GPS) started ~ 2 years ago with a system for handling widg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Original title Tk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ame changed to NexT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tkWidget is based on NexT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style ma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"/>
          <p:cNvSpPr/>
          <p:nvPr/>
        </p:nvSpPr>
        <p:spPr>
          <a:xfrm>
            <a:off x="4645080" y="2174760"/>
            <a:ext cx="404172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"/>
          <p:cNvSpPr/>
          <p:nvPr/>
        </p:nvSpPr>
        <p:spPr>
          <a:xfrm>
            <a:off x="457200" y="1600200"/>
            <a:ext cx="8228160" cy="44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-background [list disabled #9d9d9d active #ececec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-foreground [list disabled #a3a3a3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-relief [list {pressed !disabled} sunken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theme nam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"/>
          <p:cNvSpPr/>
          <p:nvPr/>
        </p:nvSpPr>
        <p:spPr>
          <a:xfrm>
            <a:off x="4645080" y="2174760"/>
            <a:ext cx="404172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"/>
          <p:cNvSpPr/>
          <p:nvPr/>
        </p:nvSpPr>
        <p:spPr>
          <a:xfrm>
            <a:off x="457200" y="1600200"/>
            <a:ext cx="8228160" cy="44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l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qu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cl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classi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defaul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like feat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/>
          <p:nvPr/>
        </p:nvSpPr>
        <p:spPr>
          <a:xfrm>
            <a:off x="457200" y="1600200"/>
            <a:ext cx="8229600" cy="45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th ttk like features you c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Determine the layout of a widget using a them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Determine the style of a widget using a them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Determine the look of a widget depending on the sta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No need to change the widget co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Different look and feel on platforms dependent on default layout for the platfor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andTtk like feat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" y="1600200"/>
            <a:ext cx="8229600" cy="45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currently used theme class in ntkWidget will be replaced by the ttk like featur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mechanisms used in Ttk are very similar to the mechanisms used in ntkWidget (widget parts -&gt; layout)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currently used methods in the ntkWidget theme class can be modified to handle sty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rendering can be easily adapted to handle layou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rendering will be enhanced to handle stat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tcl-ng addons for ntkWidg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ethodvari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op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legate metho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legate pro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legate op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tk and ntkWidg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hy not use itk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pending on Archetyp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heritance of o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trange option handling of inherited o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pending on T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o support of theme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tat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exTk and ntkWidget are work in progr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exTk and ntkWidget developers are working toget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re exist demos for NexT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re exist small demos for ntkWidget (without ttk like themes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exTk and ntkWidget could be both a replacement for Tk in the futu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 huge amount of work to be done before usable as replacement for T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ewer technology, easier to maintain code bas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dditional developpers would speed up implement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ll be incompatible to Tk on some plac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„hello world“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"/>
          <p:cNvSpPr/>
          <p:nvPr/>
        </p:nvSpPr>
        <p:spPr>
          <a:xfrm>
            <a:off x="1160640" y="1440000"/>
            <a:ext cx="6848280" cy="48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Now it is time for some small demo examp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T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Based on X11, support for windows and MacOS a lot of years l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Basic widgets are implemented completely in 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dget parts are built and displayed using X11 (client-)func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Use of system fon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Options for widgets are additionally using an option databas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Geometry managers: grid, pack and plac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o alpha blending, no free rotation of tex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tructure of T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/>
          <p:nvPr/>
        </p:nvSpPr>
        <p:spPr>
          <a:xfrm>
            <a:off x="928800" y="5429160"/>
            <a:ext cx="1285920" cy="8575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X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unix/linux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/>
          <p:nvPr/>
        </p:nvSpPr>
        <p:spPr>
          <a:xfrm>
            <a:off x="3929040" y="5429160"/>
            <a:ext cx="1285920" cy="8575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PI 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D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windows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/>
          <p:nvPr/>
        </p:nvSpPr>
        <p:spPr>
          <a:xfrm>
            <a:off x="7000920" y="5429160"/>
            <a:ext cx="1285920" cy="8575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X11/nativ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MacOS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/>
          <p:nvPr/>
        </p:nvSpPr>
        <p:spPr>
          <a:xfrm>
            <a:off x="857160" y="2928960"/>
            <a:ext cx="12146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t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C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/>
          <p:nvPr/>
        </p:nvSpPr>
        <p:spPr>
          <a:xfrm>
            <a:off x="3929040" y="4214880"/>
            <a:ext cx="1285920" cy="857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k Ba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Lay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C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/>
          <p:nvPr/>
        </p:nvSpPr>
        <p:spPr>
          <a:xfrm>
            <a:off x="3929040" y="2928960"/>
            <a:ext cx="128592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C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/>
          <p:nvPr/>
        </p:nvSpPr>
        <p:spPr>
          <a:xfrm>
            <a:off x="6929280" y="3000240"/>
            <a:ext cx="12146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C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/>
          <p:nvPr/>
        </p:nvSpPr>
        <p:spPr>
          <a:xfrm>
            <a:off x="857160" y="1643040"/>
            <a:ext cx="12146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t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Tcl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/>
          <p:nvPr/>
        </p:nvSpPr>
        <p:spPr>
          <a:xfrm>
            <a:off x="3929040" y="1643040"/>
            <a:ext cx="128592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Tcl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/>
          <p:nvPr/>
        </p:nvSpPr>
        <p:spPr>
          <a:xfrm>
            <a:off x="6929280" y="1714680"/>
            <a:ext cx="12146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Tcl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2" name=""/>
          <p:cNvCxnSpPr>
            <a:stCxn id="66" idx="1"/>
            <a:endCxn id="62" idx="0"/>
          </p:cNvCxnSpPr>
          <p:nvPr/>
        </p:nvCxnSpPr>
        <p:spPr>
          <a:xfrm flipV="1" rot="10800000">
            <a:off x="1571040" y="4642920"/>
            <a:ext cx="2358000" cy="786600"/>
          </a:xfrm>
          <a:prstGeom prst="bentConnector3">
            <a:avLst>
              <a:gd name="adj1" fmla="val 49992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66" idx="3"/>
            <a:endCxn id="64" idx="0"/>
          </p:cNvCxnSpPr>
          <p:nvPr/>
        </p:nvCxnSpPr>
        <p:spPr>
          <a:xfrm>
            <a:off x="5214600" y="4642920"/>
            <a:ext cx="2429640" cy="786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66" idx="2"/>
            <a:endCxn id="63" idx="0"/>
          </p:cNvCxnSpPr>
          <p:nvPr/>
        </p:nvCxnSpPr>
        <p:spPr>
          <a:xfrm>
            <a:off x="4572000" y="5072040"/>
            <a:ext cx="2160" cy="357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8" idx="2"/>
            <a:endCxn id="66" idx="0"/>
          </p:cNvCxnSpPr>
          <p:nvPr/>
        </p:nvCxnSpPr>
        <p:spPr>
          <a:xfrm flipH="1">
            <a:off x="4571280" y="3914640"/>
            <a:ext cx="2964600" cy="30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65" idx="2"/>
            <a:endCxn id="66" idx="0"/>
          </p:cNvCxnSpPr>
          <p:nvPr/>
        </p:nvCxnSpPr>
        <p:spPr>
          <a:xfrm>
            <a:off x="1465200" y="3843360"/>
            <a:ext cx="31089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7" idx="2"/>
            <a:endCxn id="66" idx="0"/>
          </p:cNvCxnSpPr>
          <p:nvPr/>
        </p:nvCxnSpPr>
        <p:spPr>
          <a:xfrm>
            <a:off x="4572000" y="3843360"/>
            <a:ext cx="21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8" name=""/>
          <p:cNvCxnSpPr/>
          <p:nvPr/>
        </p:nvCxnSpPr>
        <p:spPr>
          <a:xfrm flipH="1">
            <a:off x="1428480" y="2571840"/>
            <a:ext cx="21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9" name=""/>
          <p:cNvCxnSpPr/>
          <p:nvPr/>
        </p:nvCxnSpPr>
        <p:spPr>
          <a:xfrm flipH="1">
            <a:off x="4571640" y="2571840"/>
            <a:ext cx="21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80" name=""/>
          <p:cNvCxnSpPr/>
          <p:nvPr/>
        </p:nvCxnSpPr>
        <p:spPr>
          <a:xfrm flipH="1">
            <a:off x="7500600" y="2643120"/>
            <a:ext cx="21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NexTk (1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/>
          <p:nvPr/>
        </p:nvSpPr>
        <p:spPr>
          <a:xfrm>
            <a:off x="457200" y="1600200"/>
            <a:ext cx="8229600" cy="51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dgets und widget parts are built as imag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dget code is Tcl co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mages are built using megimage func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Freetpyeext for fonts/tex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Geometry managers: grid, pack(planned), place(planned)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th alpha blending, with free text rot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mponents of NexT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1600200"/>
            <a:ext cx="8229600" cy="51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egaimage: pixel image and blending fun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freetypeext: extension of freetype fonts for building text images and rotating tex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objstructure: extension for building simple obje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tk: the collection of Tcl code building the base widg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NexTk (2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1600200"/>
            <a:ext cx="8229600" cy="51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very pixel consists of 4 bytes r/g/b and alph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tk package is handling root windows and mouse and key ev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Use of openGL for display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Running on linux and win32 at the mo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ntkWidget (1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Based mostly on NexTk with the following differenc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Use of itcl instead of objstructure and use of ntkWidgetImage instead of megaimag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Use of GLMWFW (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raphic 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brary 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ulti 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ndow 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rame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ork) as common platform independent base for handling root windows and mouse/key even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dget parts are constructed using itcl-ng classes with inheritance instead of objstructu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ntkWidget (2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 the future: use of ttk(tile) like architecture for handling themes (also using itcl-ng classes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tk like theme handling implemented about 70%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amespace ensemble subcommands for the functionality, so no need to learn itcl for users of the pack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Linux only at the moment (no development environment for windows MacOS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rnulf Wiedemann</dc:creator>
  <dc:description/>
  <dc:language>en-US</dc:language>
  <cp:lastModifiedBy> </cp:lastModifiedBy>
  <cp:revision>0</cp:revision>
  <dc:subject/>
  <dc:title>NtkWidget </dc:title>
</cp:coreProperties>
</file>