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ACB9-3A68-4795-A577-91EDAFDC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546-1CA0-4E61-B61C-A45ABB50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25B-3FDE-496A-A725-24DD0F1C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7F4-1E67-4688-AC28-385AEF67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C25-CC55-46EA-B7F8-0F0FD35D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2F9-72DF-4075-84D2-1211E8BF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3C19-09CA-413F-BC3A-DEE16EB3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7CAA-63B1-4105-B6C4-FDCF8DFE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6BF8-0829-4B3C-8D23-C750A68F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E63D-9CB9-48E2-B3A2-551ED43E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0A41-5502-4B75-8236-F2367991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84F2-525E-4A09-8739-CF1DA942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B3E4-08E3-48DC-916E-B50E4CDAFE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752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508480" y="4343400"/>
            <a:ext cx="4149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kunihiro@digital-magic.co.j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’s zebr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provide full routing 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 &amp; Route Reflector integ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thread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cy control and fil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w it can announce routing informatio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support is under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ederation support is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regular expression match not yet im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further bgpd-pre-XXX rel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v1 RIPv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648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760" y="2286000"/>
            <a:ext cx="13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y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c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l-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9360" y="2286000"/>
            <a:ext cx="207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ole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4800" y="5299200"/>
            <a:ext cx="48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some lines of code for RI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face handl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do not use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ctl(sock,SIOCGICONF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u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ctl (mib, MIBSIZ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can handle unlimited number of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as unlimited size of FD_SET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ou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m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98108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2819520"/>
            <a:ext cx="28958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28958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4343400"/>
            <a:ext cx="28958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1981080"/>
            <a:ext cx="289548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4120" y="518148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518148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133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89548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65760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4419720"/>
            <a:ext cx="2286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2209680"/>
            <a:ext cx="457200" cy="2667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6324480" y="2438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324480" y="30481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32448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32448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324480" y="3962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3244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24480" y="4572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933240" y="3276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9810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981080" y="2362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98108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8108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9810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98108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981080" y="3733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98108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98108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98108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81080" y="4648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81080" y="4800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9840" y="21337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89840" y="28954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89840" y="365760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9840" y="449568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tex_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1640" y="28954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360" y="21337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760" y="3657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840" y="44197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320040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evelop each protocol daemon sepa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only need BGPd for Route Server and/or Rout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 disable protocol by killing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debug 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ML (English onl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 Home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rd 0.2 will be out soon. They will change interface from C-thread to P-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that we develop thread routine under Solaris 2.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5T01:36:12Z</dcterms:created>
  <dc:creator>Digital Magic Labs, Inc.</dc:creator>
  <dc:description/>
  <dc:language>en-US</dc:language>
  <cp:lastModifiedBy>Digital Magic Labs, Inc.</cp:lastModifiedBy>
  <cp:lastPrinted>1997-03-26T08:43:22Z</cp:lastPrinted>
  <dcterms:modified xsi:type="dcterms:W3CDTF">1997-03-26T08:48:16Z</dcterms:modified>
  <cp:revision>4</cp:revision>
  <dc:subject/>
  <dc:title>zebra</dc:title>
</cp:coreProperties>
</file>